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4F69-B38D-4F79-84C0-471B38BF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1F4B-F7B5-45CC-95B6-851B8CD0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F80E-8555-4287-B647-03089B57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F411-5E7A-4849-BF0A-E7C99775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14A8-AC51-4E31-9C57-FD48C637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3C13-5E62-4387-A23D-9245FB8D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74AB-58CF-4550-A6FB-3863582B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F566-B766-48C6-887A-0FFA5396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CF55-7E51-4855-B40B-6607E0D4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0295-F5A9-46BF-BDAA-B550EFFD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5994-8323-4B85-B5EF-33D05413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463B-8769-4A8A-86CB-394C37D1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C42C-91FB-48EF-A6AA-9110CE03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6344-A074-457D-8FCF-EA4F27B8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879C-5BE4-44C2-B6AE-E893FBAC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51DF-E161-4465-A1E4-A48E829D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100C-D540-4FE3-AEB7-C8915286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8BFA-C714-4388-97CB-EE1F001F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7D00-8206-4E5B-A8BD-41C3BF60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078B-E103-4AFF-88D7-A8010558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CDA4-682A-4892-B4C8-36FCEFF8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257C-3D1D-41B9-BD12-40E4E216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163C-3F25-42B5-9D64-372FBCCF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5636-9AD6-4496-BB2A-D24D38C2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ECD6-2FF9-43F6-A6C5-8F60CC582D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A6CC-20A9-4FDC-BB59-CB850741B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x.kz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569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нятие социального нал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лательщики социального нал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Объекты налогооб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Ставки обложения нало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</a:rPr>
              <a:t>Порядок исчисления и порядок уплаты налога, налоговая деклар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620640"/>
            <a:ext cx="525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c2d7"/>
                </a:solidFill>
                <a:latin typeface="Arial"/>
              </a:rPr>
              <a:t>Социальный</a:t>
            </a:r>
            <a:r>
              <a:rPr b="0" lang="en-US" sz="2400" spc="-1" strike="noStrike">
                <a:solidFill>
                  <a:srgbClr val="9dc2d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dc2d7"/>
                </a:solidFill>
                <a:latin typeface="Arial"/>
              </a:rPr>
              <a:t>н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Список использованных источников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Налоговый кодекс РК».(10 февраля 2008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«Налоги и налогообложение в РК» Нурхалиева Д.М., Омирбаев С.М., Омарова Ш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www.tax.k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Новый «Налоговый Кодекс РК» 200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 u="sng">
                <a:solidFill>
                  <a:srgbClr val="ff3300"/>
                </a:solidFill>
                <a:uFillTx/>
                <a:latin typeface="Arial"/>
              </a:rPr>
              <a:t>Социальный налог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507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4800" spc="-1" strike="noStrike">
                <a:solidFill>
                  <a:srgbClr val="ccccff"/>
                </a:solidFill>
                <a:latin typeface="Estrangelo Edessa"/>
              </a:rPr>
              <a:t>Один из видов прямых налогов, которые уплачивают организации, как работодатели, за своих работ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Плательщики социального на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Индивидуальные предприниматели, за исключением осуществляющих расчеты с бюджета на основе разового тал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Частные нотариусы, адвока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Юридические лица – резиденты Р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Edwardian Script ITC"/>
              </a:rPr>
              <a:t>Нерезиденты, осуществляющих деятельность в РК через постоянное учре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Объекты налогооб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Расходы работодателя, выплачиваемые работникам – резидентам в виде доход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Доходы иностранного персона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Численность работников, включая самих работ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Ставки обложения нал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циальный налог исчисляется по ставк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1 процен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Частные нотариус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адвокаты уплачивают социальный налог в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2-кратном размере месячного расчетного показателя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за себя 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-кратно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размере месячного расчетного показателя за каждого работни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ециализированные организации, в которых работают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нвалид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численность в организации не менее 51%) по ставк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,5 проц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вки социального налога для плательщиков, применяющие специальные налоговые режимы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гл 62 НК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П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тоимости патент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юридич.лица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1/2 от от исчисленной суммы налогов по упрощенной деклар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ельхоз.производителе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умма соц.налога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меньшена на 70%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ерме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20% от МР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за каждого работника, а так же за главу и совершеннолетних членов крестьянского или фермерского хозяй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920" y="333360"/>
            <a:ext cx="7958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900" spc="-1" strike="noStrike" u="sng">
                <a:solidFill>
                  <a:srgbClr val="ff3300"/>
                </a:solidFill>
                <a:uFillTx/>
                <a:latin typeface="Arial"/>
              </a:rPr>
              <a:t>Порядок исчисления и порядок уплаты налога, налоговая декларация.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5946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Исчисление социального налога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производиться путем применения ставок к объекту налогообложения. Сумма соц. налога подлежит уменьшению на сумму соц.отчис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Уплата социального налога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производится не позднее 25 числа месяца, следующего за отчетным меся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rte"/>
              </a:rPr>
              <a:t>Декларация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по социальному налогу предоставляется в налоговые органы ежекварт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не позднее 15  числа второго месяца, следующего за отчетным кварта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272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cc"/>
                </a:solidFill>
                <a:uFillTx/>
                <a:latin typeface="Arial"/>
              </a:rPr>
              <a:t>Плательщиками социального налога являются: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Индивидуальные предприниматели, за исключением осуществляющих расчеты с бюджета на основе разового тал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Частные нотариусы, адвока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Юридические лица – резиденты РК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Нерезиденты, осуществляющих деятельность в РК через постоянное учрежд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все варианты вер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66"/>
                </a:solidFill>
                <a:uFillTx/>
                <a:latin typeface="Times New Roman"/>
              </a:rPr>
              <a:t>Что является объектом налогообложения для плательщи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расходы работодателя, выплачиваемые работникам- резидентам в виде дох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алименты на детей и иждивенце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диновременные выплаты из государственного бюджет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социальные выплаты граждан, пострадавших вследствие экологического бед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адресная социальная помощь, пособия и компен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Исчисление социального налога производ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А)  ежекварта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) ежего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С) ежедекад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) еженеде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Е) ежемесячн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942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000" spc="-1" strike="noStrike" u="sng">
                <a:solidFill>
                  <a:srgbClr val="ff0066"/>
                </a:solidFill>
                <a:uFillTx/>
                <a:latin typeface="Times New Roman"/>
              </a:rPr>
              <a:t>Декларация по социальному налогу предоста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)  не позднее 5  числа месяца, следующего за кварт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) не позднее 20  числа месяца, следующего за кварт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) не позднее 5 числа месяца, следующего за отчетным год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не поздне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числа второго месяца, следующего за отчетным кварталом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) в люб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Чему будет равна ставка социального нало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) 13 %;  В) 15 %;С) 11 %;Д) 9 %;Е) 5 %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Тестов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950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Arial"/>
              </a:rPr>
              <a:t>Резю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циальный налог, заменил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ебюджетных платеж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циальное страх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бязательное медицинское страх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нят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9760" y="1980720"/>
            <a:ext cx="4576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имуществом социального налога, является то, что он не зависит от форм собственности хозяйствующего субъекта и конечного финансового результ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етодика расчета социального налога производится согласно применениям ставки налога- 11%,  к облагаемому дох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19:49Z</dcterms:created>
  <dc:creator>User</dc:creator>
  <dc:description/>
  <dc:language>en-US</dc:language>
  <cp:lastModifiedBy>test</cp:lastModifiedBy>
  <dcterms:modified xsi:type="dcterms:W3CDTF">2009-11-03T16:30:03Z</dcterms:modified>
  <cp:revision>12</cp:revision>
  <dc:subject/>
  <dc:title>Социальный налог</dc:title>
</cp:coreProperties>
</file>